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BE17-4E08-491F-BEE4-18AD866AB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tzjkf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D36-CC07-4B2B-9475-A97F877E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11F8-6FCC-4462-A973-653BDBE1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AE4-2164-45B0-93D9-EB853822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2CB-4ADF-4B72-9430-7D1919C3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ABA5-A665-4ADC-9327-FD2BAAC6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8D69-162B-48D7-8F31-4B0647CF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FF5-B246-4B5D-B5FD-0D976794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AAC-1B68-4EB7-9E8F-6BD08CB1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DC5E-AC38-4655-9EDA-8EB3BE2A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56A-782F-4D02-A04F-15F73095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130-E760-4707-92AF-323B0F42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B65-3D01-43E5-8A07-E2556F1D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3333cc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E90F-07A8-4D1A-AB2C-B110DF07A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3333cc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Podatkovni višemedijski prijenos </a:t>
            </a:r>
            <a:br>
              <a:rPr sz="4400"/>
            </a:b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i računalne mrež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DEO KAR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3333cc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to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AG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lerated Graphics P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-memory design - korištenje sistemskog RAM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ža sabirnica od PCI sabir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6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PCI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CI sabir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3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3333cc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rektX i Open G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Direkt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je set API-a razvijen od Microsoft-a. DirectX je napravljen od nekoliko komponent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Input za ulazne uređ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Sound za zvučne kar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Draw za grafičke kar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3D za 3D akcelera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3333cc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rektX i Open G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Open G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set specifikacija za cross-platform 3D grafički API kojeg je razvio Silicon Graphi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 GL koristi rutine z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jenč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piranje tekstu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triran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-alia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vjetlja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ometrijske transformacije ,i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3333cc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gled 3D kartica na tržišt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3df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odoo3 2000 16Mb, 300MHz RAMDAC PC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119,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odoo3 3000 16Mb, 350MHz RAMDAC PC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669,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odoo3 3000 16Mb, 350MHz RAMDAC AGP 2x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394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nVi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Force 256, 32 SGRAM, 350MHz DAC, V: 240Hz, AGP 4x sa Fast Write, T&amp;L Eng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.257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va TNT2,32MbSDRAM,300MHz DAC,V:240Hz,AGP 2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.512,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3333cc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gled 3D kartica na tržišt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Matro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trox G400 32Mb SGRAM DualHead, RAMDAC 300MHz, 2 izlaza za monitor (ili S-VHS/Video-Out), AGP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.840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3333cc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duć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62120" y="1981080"/>
            <a:ext cx="7772400" cy="4114800"/>
            <a:chOff x="762120" y="1981080"/>
            <a:chExt cx="7772400" cy="411480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762120" y="1981080"/>
              <a:ext cx="77724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762120" y="19810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3333cc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ww10.pair.com/jsalv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ww.3dfx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ww.nvidia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ww.matrox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3333cc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deo kartice možemo grubo podjeliti na kartice za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D apl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apl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mbinaciju ob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mbinaciju obje + TV U/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3333cc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D Aplikaci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snovna funkcija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užanje boljih grafičkih performan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sterećenje CPU-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josnovnija svojstva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zolu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bina bo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kvencija osvježa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zlazna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3333cc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D Aplikaci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deo kartice s 3D akceleracijom ubrzavaju ispis objekata u tri domenzi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uključuje mapiranje tekstura na objektima u svrhu da izgledaju što realni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3333cc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stanak 3D sli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stavljanje na jednostavnije poligone ( trokuti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zvođenje geometrijskih transformacija ( translacija, rotacija, skalirajn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račun osvjetljenja ( ambijentalni, difuzni ili točkasti izvo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klanjanje dijelova objekta koji ispadaju iz vidljivog dijela ekrana ( clipping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račun perspek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račun boja, sjenčan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3333cc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stanak 3D sli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sterizacija (dodjeljivanje boje svakoj točci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klanjanje skrivenih površina objek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3333cc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D Funkcije i pojmov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Aliasing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nesavršenosti koje se javljaju kao svojstvo zaslona i palete boja koji imaju diskretan, a ne kontinuirani karak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Anti Alia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“omekšavanje” kosih crta pomoću više nijansi odgovarajuće bo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8175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3333cc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Alpha Blend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tehnika koja se koristi kod postizanja efekata poput magle, stakla ili dima ( postavljanje jedne teksture preko druge bez potpunog prekrivanja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Dither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stvaranje novih boja kombinacijom već postojećih (paleta od 256 izgleda kao paleta od 64k boj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Filter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omekšavanje tekstura umetanjem novih točaka između dviju izvorni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Bi-linear Filter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boja svake točke određuje se prosječnom težinom boja četiri susjedne točke u izvornoj tekstu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Tri-linear Filter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uzimaju se dvije izvorne susjedne teksture na kojima se izvodi Bi-linearni Filt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3333cc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17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Mip Mapp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tehnika koja koristi manje detalja ili izbjegava postavljanje kompleksnih tekstura na male objek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Z-Buff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spremnik u kojeg se spremaju točke koje su vidljive u odnosu na promatrača (tj. ako je z-os objekta velika tada nema ispisa na zaslon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API - Application Programming Interf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skupina rutina, funkcija i objekata koja se može koristi za razvoj aplikacija (sučelje za razne hardware uređaj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15:51:29Z</dcterms:created>
  <dc:creator>HDZ</dc:creator>
  <dc:description/>
  <dc:language>en-US</dc:language>
  <cp:lastModifiedBy>HDZ</cp:lastModifiedBy>
  <dcterms:modified xsi:type="dcterms:W3CDTF">2000-02-02T22:23:26Z</dcterms:modified>
  <cp:revision>7</cp:revision>
  <dc:subject/>
  <dc:title>Podatkovni višemedijski prijenos  i računalne mreže</dc:title>
</cp:coreProperties>
</file>