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038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B626233-2E64-40C9-8688-92673164C9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29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760-2643-4EB9-85D1-90DD83E9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0380-885F-4757-83B4-2328B407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F6D8-E875-43B2-A6C1-ED7F8FDF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E881-0BD5-48E3-9975-DB1E6790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10C1-6993-4132-884F-B33D3D02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C611-58AA-42DA-B033-129CE82A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E7C3-7BA4-4BA9-8201-4FF57513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59E3-1722-43F5-B3D0-CC196BD1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56DD-88B2-44D6-99F1-8B9A6D94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CCEC-6882-4CE6-9AA8-595FBFDE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70F0-45E8-4DA8-BB79-62AB9309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3254-9CE8-4F34-9652-79E0D512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0888-C914-4A9D-BDC4-B58433D1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965C-E40D-4437-905E-F40994FE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3226-6A57-4885-A4FB-EEBDBEF1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F572-D6A6-45C7-AC93-52392DAE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49E7-B5DC-4EB5-83A1-E84EE228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1092-9288-4FAB-92FB-86BFA49C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7576-F443-43CB-BE17-AB21B4F4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0DA0-BE01-448F-888E-7C320AC1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5C3D-AFA6-4F20-9A17-6D77A233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4CEA-EE00-4195-803E-4BB8295C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6F5F-5FEF-4574-BCB4-BD4ECCF9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CC9E-8083-4922-B0A2-A9EFC9D6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6F38-89C3-459C-A784-DAA932C8ABFE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284A-9A79-471B-B6A2-41180BCE98BF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sse.gmu.edu/~njohnson/stegdoc/" TargetMode="External"/><Relationship Id="rId2" Type="http://schemas.openxmlformats.org/officeDocument/2006/relationships/hyperlink" Target="http://www.stego.com/" TargetMode="External"/><Relationship Id="rId3" Type="http://schemas.openxmlformats.org/officeDocument/2006/relationships/hyperlink" Target="http://fourmilab.ch/nav/topics/crypto.html" TargetMode="External"/><Relationship Id="rId4" Type="http://schemas.openxmlformats.org/officeDocument/2006/relationships/hyperlink" Target="http://www.wowarea.com/english/help/stega.htm" TargetMode="External"/><Relationship Id="rId5" Type="http://schemas.openxmlformats.org/officeDocument/2006/relationships/hyperlink" Target="http://www.blackhat.org/stego.htm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ffcc66"/>
                </a:solidFill>
                <a:latin typeface="Times New Roman"/>
              </a:rPr>
              <a:t>Steganografij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096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Times New Roman"/>
              </a:rPr>
              <a:t>Smolić-Ročak Nen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minarski rad 1999./2000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Zavod za elektroničke sustave i obradbu informacij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akultet elektrotehnike i računarstv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veučilište u Zagreb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56CA-DCB4-4044-A7CF-BF3A177A81C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Times New Roman"/>
              </a:rPr>
              <a:t>Modfikacija LSB-ov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6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Taj problem može se zaobići da se formira sortirana paleta, tako da su susjedne boje u paleti bliske u RGB modelu, te se u tako formiranoj paleti mijenjaju LSB-ov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Također nisu pogodne slike s velikim jednobojnim površinama, jer će se na njima dobro ocrtavati promjene nastale skrivenom porukom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A762-E016-4953-968D-C206451A3D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Times New Roman"/>
              </a:rPr>
              <a:t>Modfikacija LSB-ov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Promjenom LSB-a svakog pksela u slici veličine 640</a:t>
            </a:r>
            <a:r>
              <a:rPr b="0" lang="hr-HR" sz="3200" spc="-1" strike="noStrike">
                <a:solidFill>
                  <a:srgbClr val="eaeaea"/>
                </a:solidFill>
                <a:latin typeface="Symbol"/>
                <a:ea typeface="Symbol"/>
              </a:rPr>
              <a:t></a:t>
            </a: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480 s 256 boja može sadržavati 37.5 KB podata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Velika većina alata za steganografiju ne podržava 24-bitni JPG format zapisa, već koriste GIF-ove s paletom od 256 boj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4B7F-789D-4FD3-9202-96E74988AE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Times New Roman"/>
              </a:rPr>
              <a:t>Dodatne mogućnos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Steganografija nije zamijena za kriptografiju već je samo njena nadopun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Osim samog skrivanja podataka u slici, moguće je piksele kojima će se mijenjati LSB odabrati slučajno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Na taj se način onemogućava statistička analiza LSB-ova za otkrivanje kodiranih podataka (dobro kriptirane poruke se manifestiraju kao bijeli šu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30BB-821D-41D6-8934-444A048CEB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Slika s lijeve strane poslužiti će kao podatak nositelj (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enoir</a:t>
            </a: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 Moulin de la Galette</a:t>
            </a: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dok će lijeva biti poruka (satelitska snimka sovjetske baze za strateške bombardere 1966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284B-456A-4262-BE77-2213CAFFC8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90880" y="22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sl13" descr=""/>
          <p:cNvPicPr/>
          <p:nvPr/>
        </p:nvPicPr>
        <p:blipFill>
          <a:blip r:embed="rId1"/>
          <a:stretch/>
        </p:blipFill>
        <p:spPr>
          <a:xfrm>
            <a:off x="1162080" y="2352600"/>
            <a:ext cx="4132080" cy="3057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998800" y="21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sl4" descr=""/>
          <p:cNvPicPr/>
          <p:nvPr/>
        </p:nvPicPr>
        <p:blipFill>
          <a:blip r:embed="rId2"/>
          <a:stretch/>
        </p:blipFill>
        <p:spPr>
          <a:xfrm>
            <a:off x="5308560" y="2359080"/>
            <a:ext cx="3805200" cy="30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85A0-CCDB-4058-A0E0-0E1591A041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Rezultat primjene programa S-tools nad podacima j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37F3-B88D-40EB-BF32-886B807EFC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90880" y="22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cap320cg" descr=""/>
          <p:cNvPicPr/>
          <p:nvPr/>
        </p:nvPicPr>
        <p:blipFill>
          <a:blip r:embed="rId1"/>
          <a:stretch/>
        </p:blipFill>
        <p:spPr>
          <a:xfrm>
            <a:off x="2828880" y="2125800"/>
            <a:ext cx="486576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8072-1E5F-42FC-B891-D6047F88BE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Times New Roman"/>
              </a:rPr>
              <a:t>Aud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Primjenjuju se slične metode kao kod slika (LSB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No problem je ljudska osjetljivost na šu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Times New Roman"/>
              </a:rPr>
              <a:t>taj šum može se maskirati (buka navijač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Nedostata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Times New Roman"/>
              </a:rPr>
              <a:t>slaba zaštita od gubitka podataka (dodatno otipkavanje, šum na kanal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144-9192-42B1-9F96-0DC43EFAAE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71892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Times New Roman"/>
              </a:rPr>
              <a:t>Zaljuča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95280" y="24382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Zato oprezno kada primate slike ili audio, jer tko zna kakve poruke one u stvari sadr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5EAC-9307-4C14-9332-BB18A33DEDDF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Times New Roman"/>
              </a:rPr>
              <a:t>Korisni linkov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75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www.isse.gmu.edu/~njohnson/stegdoc/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http://www.stego.com/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ff33cc"/>
                </a:solidFill>
                <a:uFillTx/>
                <a:latin typeface="Times New Roman"/>
                <a:hlinkClick r:id="rId3"/>
              </a:rPr>
              <a:t>http://fourmilab.ch/nav/topics/crypto.html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ff33cc"/>
                </a:solidFill>
                <a:uFillTx/>
                <a:latin typeface="Times New Roman"/>
                <a:hlinkClick r:id="rId4"/>
              </a:rPr>
              <a:t>http://www.wowarea.com/english/help/stega.htm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ff33cc"/>
                </a:solidFill>
                <a:uFillTx/>
                <a:latin typeface="Times New Roman"/>
                <a:hlinkClick r:id="rId5"/>
              </a:rPr>
              <a:t>http://www.blackhat.org/stego.htm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4F38-1E70-48CD-A9AE-1EE73CB66B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Times New Roman"/>
              </a:rPr>
              <a:t>Uvo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Definicija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Times New Roman"/>
              </a:rPr>
              <a:t>grčki “skriveno pisanje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Cilj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eaeaea"/>
                </a:solidFill>
                <a:latin typeface="Times New Roman"/>
              </a:rPr>
              <a:t>skrivanje postojanja komunikacij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Neke od metoda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Times New Roman"/>
              </a:rPr>
              <a:t>Nevidljive tin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Times New Roman"/>
              </a:rPr>
              <a:t>Mikrofotografij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Times New Roman"/>
              </a:rPr>
              <a:t>Digitalni potp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8F22-10E5-492F-9EB3-F5116A32E9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Times New Roman"/>
              </a:rPr>
              <a:t>Povijest steganografij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Daleka povije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Times New Roman"/>
              </a:rPr>
              <a:t>Herodot: voštane ploče (na drv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Times New Roman"/>
              </a:rPr>
              <a:t>tetoviranje glav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Malo novije meto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Times New Roman"/>
              </a:rPr>
              <a:t>nevidljive tinte (mlijeko, urin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Times New Roman"/>
              </a:rPr>
              <a:t>mikrofotografij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Times New Roman"/>
              </a:rPr>
              <a:t>slik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Times New Roman"/>
              </a:rPr>
              <a:t>izgled dokumen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Times New Roman"/>
              </a:rPr>
              <a:t>nekriptirane poruke (null ciphe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120A-8EAC-4E46-864E-7342A3A799C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null ciph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Poruk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pparently neutral's protest is thoroughly discounted and ignored. Isman hard hit. Blockade issue affects pretext for embargo on by products, ejecting suets and vegetable oil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što u stvari skriva poruku (drugo slovo iz svake riječi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ershing sails from NY June 1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3647-2261-442A-B8D8-F4B482099E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Times New Roman"/>
              </a:rPr>
              <a:t>Novije meto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Cilj je, dakle, onemogućiti detekciju poruke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i tu računala nalaze svoju primjenu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Koriste se metode spremanja digitalnih podataka unutar podataka nositelj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F63C-D770-4258-97F6-734E4C3D7C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Times New Roman"/>
              </a:rPr>
              <a:t>Novije meto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Podaci nositelji najčešće s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eaeaea"/>
                </a:solidFill>
                <a:latin typeface="Times New Roman"/>
              </a:rPr>
              <a:t>Slika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eaeaea"/>
                </a:solidFill>
                <a:latin typeface="Times New Roman"/>
              </a:rPr>
              <a:t>Zvuk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a zajedničko im je korištenje metode modifikacije LSB byte-ova podatka nositelj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00BD-F922-470C-BC9F-68A4689E65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Times New Roman"/>
              </a:rPr>
              <a:t>Modifikacija LSB-ov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Promjene najmanje važnih bitova bajtova podataka nositelj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U digitalnom obliku slika se sastoji od matrice brojeva koji pokazuju na neko mjesto u paleti boja (najčešće 24-bitna RGB paleta) te se na taj način dobiva informacija o boji pikse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44E6-A664-4503-9D0F-7DC852CEB7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Times New Roman"/>
              </a:rPr>
              <a:t>Modifikacija LSB-ov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Ukoliko nekom piksel-u promjenimo LSB, tada pokazivač pokazuje na susjedno mjesto u paleti boja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Times New Roman"/>
              </a:rPr>
              <a:t>No, nisu svi pikseli pogodni za promjenu LS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32DC-1703-4C98-B3E2-F9980EFB65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Times New Roman"/>
              </a:rPr>
              <a:t>Modifikacija LSB-ov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49480" cy="16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Times New Roman"/>
              </a:rPr>
              <a:t>Ukoliko se </a:t>
            </a:r>
            <a:r>
              <a:rPr b="0" lang="hr-HR" sz="2800" spc="-1" strike="noStrike">
                <a:solidFill>
                  <a:srgbClr val="993366"/>
                </a:solidFill>
                <a:latin typeface="Times New Roman"/>
              </a:rPr>
              <a:t>ljubičastoj</a:t>
            </a:r>
            <a:r>
              <a:rPr b="0" lang="hr-HR" sz="2800" spc="-1" strike="noStrike">
                <a:solidFill>
                  <a:srgbClr val="eaeaea"/>
                </a:solidFill>
                <a:latin typeface="Times New Roman"/>
              </a:rPr>
              <a:t> boji promijeni LSB iz 0 u 1 postaj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5272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4012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238720" y="1752480"/>
          <a:ext cx="3657600" cy="36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720" y="1752480"/>
                    <a:ext cx="3657600" cy="36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" name=""/>
          <p:cNvGrpSpPr/>
          <p:nvPr/>
        </p:nvGrpSpPr>
        <p:grpSpPr>
          <a:xfrm>
            <a:off x="4925520" y="2536920"/>
            <a:ext cx="1510200" cy="2271600"/>
            <a:chOff x="4925520" y="2536920"/>
            <a:chExt cx="1510200" cy="2271600"/>
          </a:xfrm>
        </p:grpSpPr>
        <p:sp>
          <p:nvSpPr>
            <p:cNvPr id="120" name=""/>
            <p:cNvSpPr/>
            <p:nvPr/>
          </p:nvSpPr>
          <p:spPr>
            <a:xfrm>
              <a:off x="6207120" y="4579920"/>
              <a:ext cx="228600" cy="228600"/>
            </a:xfrm>
            <a:prstGeom prst="ellipse">
              <a:avLst/>
            </a:prstGeom>
            <a:noFill/>
            <a:ln cap="sq" w="63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4925520" y="2536920"/>
              <a:ext cx="1282680" cy="2079360"/>
            </a:xfrm>
            <a:prstGeom prst="line">
              <a:avLst/>
            </a:prstGeom>
            <a:ln cap="sq" w="41400">
              <a:solidFill>
                <a:srgbClr val="993366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232160" y="4247640"/>
            <a:ext cx="2421000" cy="556200"/>
            <a:chOff x="4232160" y="4247640"/>
            <a:chExt cx="2421000" cy="556200"/>
          </a:xfrm>
        </p:grpSpPr>
        <p:sp>
          <p:nvSpPr>
            <p:cNvPr id="123" name=""/>
            <p:cNvSpPr/>
            <p:nvPr/>
          </p:nvSpPr>
          <p:spPr>
            <a:xfrm>
              <a:off x="6427800" y="4576680"/>
              <a:ext cx="225360" cy="227160"/>
            </a:xfrm>
            <a:prstGeom prst="ellipse">
              <a:avLst/>
            </a:prstGeom>
            <a:noFill/>
            <a:ln cap="sq" w="63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4232160" y="4247640"/>
              <a:ext cx="2168640" cy="444600"/>
            </a:xfrm>
            <a:prstGeom prst="line">
              <a:avLst/>
            </a:prstGeom>
            <a:ln cap="sq" w="41400">
              <a:solidFill>
                <a:srgbClr val="6699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190520" y="3164040"/>
            <a:ext cx="38941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99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669900"/>
                </a:solidFill>
                <a:latin typeface="Times New Roman"/>
              </a:rPr>
              <a:t>zelena </a:t>
            </a:r>
            <a:r>
              <a:rPr b="0" lang="hr-HR" sz="2800" spc="-1" strike="noStrike">
                <a:solidFill>
                  <a:srgbClr val="eaeaea"/>
                </a:solidFill>
                <a:latin typeface="Times New Roman"/>
              </a:rPr>
              <a:t>boja, odnosno promjena je uočljiv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3D43-E9C0-43C3-935C-39DDA6AB9D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7:57:06Z</dcterms:created>
  <dc:creator>Nesa</dc:creator>
  <dc:description/>
  <dc:language>en-US</dc:language>
  <cp:lastModifiedBy>Nesa</cp:lastModifiedBy>
  <dcterms:modified xsi:type="dcterms:W3CDTF">2000-02-10T22:30:53Z</dcterms:modified>
  <cp:revision>24</cp:revision>
  <dc:subject/>
  <dc:title>Steganografija</dc:title>
</cp:coreProperties>
</file>